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AEB7A-8940-4633-95F2-7573D16F71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DA70D-52BC-450E-B287-DBEAB310FE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98FC3-24F3-4512-89D7-2BA3C5100D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2426C-5B8A-4259-821C-A653EA6E7F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8BB91-C7C9-4D05-84F4-131F8C0470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B5ED0-A38F-4A7D-A9E4-10ED4C40A5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99586-4E64-4A4B-AA2D-875DAE4817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1FD3F-BD2C-4140-B197-CB89DBBCD1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A7BFD-6894-412F-B41C-0AF2D902A2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2496D-0A89-4619-AAB9-B2AD79F2EB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Rubor, calor, dolor, tumor, functio la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386A5-BF43-4C83-9132-BB9AE67F2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53E74-BA47-4B4C-85C1-8DB44E0C99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3DCD7-A7AD-465D-9884-B243A4B865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04031-EA77-48F8-895C-B7D77072F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78387-C1E8-447F-84DC-D432E0E604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22DF5-4080-40E0-934A-F4F1B0C88B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1F777-AB69-4423-B288-F089E39757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384D0-7AD2-4F87-B761-57FABB6119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9AAC2-9D1D-41C8-8A71-6B59944C17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BF6D2-D679-4D72-A0F2-2825DDE1FE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69611-9A00-4565-8CF3-22D3050768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86090-8800-47F7-89BE-15744EC4B4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058CF-E9BF-4E68-9D14-57381B66B0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A99F5-143C-43DB-B5B6-B65854B11E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0B869-A051-4152-9C07-B4B0795C61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ED835-1BB5-4F1D-80B6-F1FBF7A055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27BA1-F7AF-4F36-801C-ABDA711CE6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E0AEE-F7A2-4195-ABEF-8B10D6C1F6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066BF-4E90-40A0-98A7-3E8ABB6199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4B8D0-46EE-4368-A737-5889A155DD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59F1F-2331-4769-B14F-AB5C242A87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03064-CFDC-4233-BB37-10A8C45C0C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8644D-AFB8-4289-82B2-EDFB527458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42A60-DFB1-4B9C-84EA-2AF72A9EB7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262EC-E3A4-4B9E-A5A3-313939ED13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ED319-73F0-4428-B0EC-594F7DC4CF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84C18-9732-4212-81BA-4D06596084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D9439-4E9F-4F55-9628-DE70A55F25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3F624-DBD0-4D6A-A88C-C314D53FA8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DCB84-6EB8-418A-9CFC-6F20D3D77A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2313A-84A5-465D-B1BC-942F5CEDAE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6A2DD-D468-4882-B7C7-740D9086A8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2B5F8-EEEC-4ECA-9484-93594F0A6B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775CC-C698-47B3-9154-EB10852495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93EE4-F942-4137-9869-8562CEBCF5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FDBE5-BDB8-417E-85B7-BD98149B20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806D3-1104-44DC-BAA1-F5C24C8C57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2401D-459F-4CD8-A79B-C703D7720F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4EE9E-414A-4F10-845B-6B13EB2E06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2507C-7415-4EF8-8EFA-4744497B5B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C335B-F2CC-4E55-A867-532CF6020D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2B99F-8DD3-48CF-AACB-F2EA6D9ABB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61B65-2BE8-4C2E-8DA4-E58C437A8D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287FA-3D0A-4A2E-BE0D-6BB0B54B0E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B176B-FFDC-4EFE-B693-3098714220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719AB-9504-4322-AECF-FD2B818121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DC850-C11F-47DE-A37D-62B5F2CAAE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1259C-D871-4108-86A4-831C249CE0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659DA-91B9-483A-89BE-72F9CD46E7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1C3D4-D5E0-4392-A1CE-BF5C13CD3F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F9C68-8F5C-44D7-AFE3-8D7C8BBF91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3916F-4E6D-4F63-99EA-321A8F7810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AD9D9-ACE3-4DA4-8D2A-BD0961B7B7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0FC2B-855B-4FD2-9FFC-6C987F3A24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B6C48-81B8-4593-AA47-22CE9D4874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73981-F4AB-4E73-90AB-8690394F6C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9757E-338A-47DB-A421-1EEE339CC0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CCA6B-1B7E-4E4B-954E-AB35A2E9B0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D754D-7E2A-4AE7-98DD-FB742F0FFA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725F6-D36C-41B1-B97D-C1119F41EF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6CBBB-6930-4020-A2BD-D7B97DE1D8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46017-DE87-43DD-90FC-D13B268D19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19EE8-74B4-4923-99D0-5A5E28761F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951AE-1419-4052-94EC-E3F69D8833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E6828-993D-4635-AE52-875FF8783F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1CE92-2B83-4121-B800-A4522903EF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544D8-5107-4338-91F2-6C49DE89C3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0F32-2DB2-4CF2-A43A-A34A7FCC9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2D3B-C1A9-4D86-A47C-26EB1D82C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05B4-A474-4CB6-B82B-FFA51B8A5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DFE6-C6CC-4761-8DB2-5C725BEF6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FF89-E02C-4D35-8A87-86BBC50BA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B2B1-5F59-4E1A-89EA-1A164B20FB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C3E5-39A2-4EA6-8E22-E9FA2E24EC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87B8-F323-48CF-8866-36B67BC9D6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2588-66DC-4049-AB7B-48838FF546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031F-F6C7-42ED-B9EA-684B14BAB0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1B67-EAAB-4840-BB11-32C729F4F9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7ABF-8EF0-4CED-A19F-F5EC1923C1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EF1B-023A-488C-8FCA-8382A585B4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FE35-DF53-42DE-8B0D-C343886BFF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60A4-421F-4D4A-8D41-8D93E6A470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057B-8E27-4569-9F44-EEE76D1F45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96F9-4ABC-4C9C-A2C2-C6EDD47A1D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6328-7F97-438A-A478-562CBC497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BEC2-8A09-4D41-A70D-6E9FF701E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F099-AC70-4215-9787-B20A29341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9BB5-A289-4664-8276-3AB2148F0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0A70-6723-44C4-B0C9-78EE521E3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E6C3-83EC-4625-A9CF-50308288F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3A28-C232-4B29-AC07-4E6863FFE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3DBB5-3042-42B6-B69B-5052307B2E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7BB39-3EF6-4E54-9E2A-464FCD9AF6DB}" type="slidenum">
              <a: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"/>
          <p:cNvSpPr/>
          <p:nvPr/>
        </p:nvSpPr>
        <p:spPr>
          <a:xfrm>
            <a:off x="611280" y="3284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Rehabilitation of  patients with rheumatic disease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E358D-FBDA-4940-956E-A9A62F767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24000" y="1341360"/>
            <a:ext cx="8640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3720" algn="just">
              <a:lnSpc>
                <a:spcPct val="80000"/>
              </a:lnSpc>
              <a:spcBef>
                <a:spcPts val="55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the clinical and radiographic picture, there are four stages of RA 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ri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welling of the soft tissu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round MCP and PIP joints) and juxta-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steopor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narrowing of the joint space, development of subcortical cysts and edge erosions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u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incipien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uscle atro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ossible occurrence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ubcutaneous nodul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enosynovitis, without joint deformation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rosive changes are more prominent (destruction of the joint head)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joint sublux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ost often MCP and MTP), muscle atrophy, subcutaneous nodules and tenosynovitis,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joint de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kyl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changes already described in the stage III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AD1E2-E2A1-44A1-A308-07F0693DD0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5545080" cy="2446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3995640" y="189000"/>
            <a:ext cx="4978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ning stiffness (&gt; 30min),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Swelling of the symmetrical joi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MCP, MTP, PIP, wrist and other joint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ut the spine never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981AA-BB97-48E7-A693-CAA62E84FE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rcRect l="0" t="0" r="12492" b="3000"/>
          <a:stretch/>
        </p:blipFill>
        <p:spPr>
          <a:xfrm>
            <a:off x="539640" y="549360"/>
            <a:ext cx="3333960" cy="295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5780160" y="2077920"/>
            <a:ext cx="3240000" cy="30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11280" y="1000080"/>
            <a:ext cx="822960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suspect RA?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three or more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MTP or MCP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squeeze t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ning stiffness &gt; 30 m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9B9DE-9636-4147-A2A7-1835D37DB4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 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 test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presence of inflammatory 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P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influence of immunological and other complaints during development of 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F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ti C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+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CC710-FEFE-4AA2-8E66-BBF1779F2F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44360" y="189000"/>
            <a:ext cx="8999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R/EULAR classification criteria for RA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0</a:t>
            </a:r>
            <a:br>
              <a:rPr sz="3200"/>
            </a:b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 score 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  <a:ea typeface="Arial"/>
              </a:rPr>
              <a:t>≥ 6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</a:rPr>
              <a:t> points is required for classification as definite RA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2"/>
          <p:cNvGrpSpPr/>
          <p:nvPr/>
        </p:nvGrpSpPr>
        <p:grpSpPr>
          <a:xfrm>
            <a:off x="457200" y="1484280"/>
            <a:ext cx="8055000" cy="1719360"/>
            <a:chOff x="457200" y="1484280"/>
            <a:chExt cx="8055000" cy="1719360"/>
          </a:xfrm>
        </p:grpSpPr>
        <p:sp>
          <p:nvSpPr>
            <p:cNvPr id="174" name="Rectangle 3"/>
            <p:cNvSpPr/>
            <p:nvPr/>
          </p:nvSpPr>
          <p:spPr>
            <a:xfrm>
              <a:off x="457200" y="1484280"/>
              <a:ext cx="3093480" cy="1710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) Joint involvement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3563280" y="14842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 medium-sized joint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7131240" y="14842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3563280" y="182844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-10  medium-sized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7131240" y="182844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3563280" y="2172600"/>
              <a:ext cx="35600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-3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7131240" y="2172600"/>
              <a:ext cx="13712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3563280" y="2512080"/>
              <a:ext cx="35600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4-10 large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7131240" y="2512080"/>
              <a:ext cx="13712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3563280" y="28576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gt;10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7131240" y="28576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4"/>
            <p:cNvSpPr/>
            <p:nvPr/>
          </p:nvSpPr>
          <p:spPr>
            <a:xfrm>
              <a:off x="356328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>
              <a:off x="713124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>
              <a:off x="3563280" y="182844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3563280" y="217260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>
              <a:off x="3563280" y="25120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3563280" y="28576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>
              <a:off x="457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8512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457200" y="148428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457200" y="32036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Group 24"/>
          <p:cNvGrpSpPr/>
          <p:nvPr/>
        </p:nvGrpSpPr>
        <p:grpSpPr>
          <a:xfrm>
            <a:off x="457200" y="3247920"/>
            <a:ext cx="8066160" cy="630360"/>
            <a:chOff x="457200" y="3247920"/>
            <a:chExt cx="8066160" cy="630360"/>
          </a:xfrm>
        </p:grpSpPr>
        <p:sp>
          <p:nvSpPr>
            <p:cNvPr id="196" name="Rectangle 25"/>
            <p:cNvSpPr/>
            <p:nvPr/>
          </p:nvSpPr>
          <p:spPr>
            <a:xfrm>
              <a:off x="457200" y="3247920"/>
              <a:ext cx="3093480" cy="621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) Duration of synovit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3563280" y="3247920"/>
              <a:ext cx="357120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l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6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7"/>
            <p:cNvSpPr/>
            <p:nvPr/>
          </p:nvSpPr>
          <p:spPr>
            <a:xfrm>
              <a:off x="7142400" y="3247920"/>
              <a:ext cx="137124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8"/>
            <p:cNvSpPr/>
            <p:nvPr/>
          </p:nvSpPr>
          <p:spPr>
            <a:xfrm>
              <a:off x="3563280" y="3599280"/>
              <a:ext cx="357120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≥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29"/>
            <p:cNvSpPr/>
            <p:nvPr/>
          </p:nvSpPr>
          <p:spPr>
            <a:xfrm>
              <a:off x="7142400" y="3599280"/>
              <a:ext cx="137124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30"/>
            <p:cNvSpPr/>
            <p:nvPr/>
          </p:nvSpPr>
          <p:spPr>
            <a:xfrm>
              <a:off x="356328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71424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32"/>
            <p:cNvSpPr/>
            <p:nvPr/>
          </p:nvSpPr>
          <p:spPr>
            <a:xfrm>
              <a:off x="3563280" y="359928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572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852336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5"/>
            <p:cNvSpPr/>
            <p:nvPr/>
          </p:nvSpPr>
          <p:spPr>
            <a:xfrm>
              <a:off x="457200" y="324792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6"/>
            <p:cNvSpPr/>
            <p:nvPr/>
          </p:nvSpPr>
          <p:spPr>
            <a:xfrm>
              <a:off x="457200" y="387828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37"/>
          <p:cNvGrpSpPr/>
          <p:nvPr/>
        </p:nvGrpSpPr>
        <p:grpSpPr>
          <a:xfrm>
            <a:off x="468360" y="3906720"/>
            <a:ext cx="8055000" cy="665280"/>
            <a:chOff x="468360" y="3906720"/>
            <a:chExt cx="8055000" cy="665280"/>
          </a:xfrm>
        </p:grpSpPr>
        <p:sp>
          <p:nvSpPr>
            <p:cNvPr id="209" name="Rectangle 38"/>
            <p:cNvSpPr/>
            <p:nvPr/>
          </p:nvSpPr>
          <p:spPr>
            <a:xfrm>
              <a:off x="468360" y="3906720"/>
              <a:ext cx="3080520" cy="6559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) Acute phase response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39"/>
            <p:cNvSpPr/>
            <p:nvPr/>
          </p:nvSpPr>
          <p:spPr>
            <a:xfrm>
              <a:off x="3563280" y="3906720"/>
              <a:ext cx="35852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rmal levels of both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nd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40"/>
            <p:cNvSpPr/>
            <p:nvPr/>
          </p:nvSpPr>
          <p:spPr>
            <a:xfrm>
              <a:off x="7155000" y="3906720"/>
              <a:ext cx="13586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3563280" y="4239360"/>
              <a:ext cx="35852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bnormal levels of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or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42"/>
            <p:cNvSpPr/>
            <p:nvPr/>
          </p:nvSpPr>
          <p:spPr>
            <a:xfrm>
              <a:off x="7155000" y="4239360"/>
              <a:ext cx="13586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3"/>
            <p:cNvSpPr/>
            <p:nvPr/>
          </p:nvSpPr>
          <p:spPr>
            <a:xfrm>
              <a:off x="356328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44"/>
            <p:cNvSpPr/>
            <p:nvPr/>
          </p:nvSpPr>
          <p:spPr>
            <a:xfrm>
              <a:off x="715500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5"/>
            <p:cNvSpPr/>
            <p:nvPr/>
          </p:nvSpPr>
          <p:spPr>
            <a:xfrm>
              <a:off x="3563280" y="4239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46"/>
            <p:cNvSpPr/>
            <p:nvPr/>
          </p:nvSpPr>
          <p:spPr>
            <a:xfrm>
              <a:off x="468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47"/>
            <p:cNvSpPr/>
            <p:nvPr/>
          </p:nvSpPr>
          <p:spPr>
            <a:xfrm>
              <a:off x="8523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48"/>
            <p:cNvSpPr/>
            <p:nvPr/>
          </p:nvSpPr>
          <p:spPr>
            <a:xfrm>
              <a:off x="468360" y="390672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49"/>
            <p:cNvSpPr/>
            <p:nvPr/>
          </p:nvSpPr>
          <p:spPr>
            <a:xfrm>
              <a:off x="468360" y="457200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Rectangle 50"/>
          <p:cNvSpPr/>
          <p:nvPr/>
        </p:nvSpPr>
        <p:spPr>
          <a:xfrm>
            <a:off x="0" y="6248520"/>
            <a:ext cx="236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1"/>
          <p:cNvSpPr/>
          <p:nvPr/>
        </p:nvSpPr>
        <p:spPr>
          <a:xfrm>
            <a:off x="5295600" y="6620040"/>
            <a:ext cx="443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letaha D. et al. Ann Rheum Dis 2010 69: 1580-1588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52"/>
          <p:cNvGrpSpPr/>
          <p:nvPr/>
        </p:nvGrpSpPr>
        <p:grpSpPr>
          <a:xfrm>
            <a:off x="468360" y="4641840"/>
            <a:ext cx="8055000" cy="1984320"/>
            <a:chOff x="468360" y="4641840"/>
            <a:chExt cx="8055000" cy="1984320"/>
          </a:xfrm>
        </p:grpSpPr>
        <p:sp>
          <p:nvSpPr>
            <p:cNvPr id="224" name="Rectangle 53"/>
            <p:cNvSpPr/>
            <p:nvPr/>
          </p:nvSpPr>
          <p:spPr>
            <a:xfrm>
              <a:off x="468360" y="4641840"/>
              <a:ext cx="3080520" cy="197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) Serology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63280" y="4641840"/>
              <a:ext cx="357120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egative RF 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7142400" y="4641840"/>
              <a:ext cx="137124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56"/>
            <p:cNvSpPr/>
            <p:nvPr/>
          </p:nvSpPr>
          <p:spPr>
            <a:xfrm>
              <a:off x="3563280" y="497484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low titer: maximum 3 times above the upper reference valu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7142400" y="497484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58"/>
            <p:cNvSpPr/>
            <p:nvPr/>
          </p:nvSpPr>
          <p:spPr>
            <a:xfrm>
              <a:off x="3563280" y="579636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high titer: 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&gt;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 times above the upper reference value   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59"/>
            <p:cNvSpPr/>
            <p:nvPr/>
          </p:nvSpPr>
          <p:spPr>
            <a:xfrm>
              <a:off x="7142400" y="579636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0"/>
            <p:cNvSpPr/>
            <p:nvPr/>
          </p:nvSpPr>
          <p:spPr>
            <a:xfrm>
              <a:off x="356328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61"/>
            <p:cNvSpPr/>
            <p:nvPr/>
          </p:nvSpPr>
          <p:spPr>
            <a:xfrm>
              <a:off x="714240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2"/>
            <p:cNvSpPr/>
            <p:nvPr/>
          </p:nvSpPr>
          <p:spPr>
            <a:xfrm>
              <a:off x="3563280" y="497484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3"/>
            <p:cNvSpPr/>
            <p:nvPr/>
          </p:nvSpPr>
          <p:spPr>
            <a:xfrm>
              <a:off x="3563280" y="5796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4"/>
            <p:cNvSpPr/>
            <p:nvPr/>
          </p:nvSpPr>
          <p:spPr>
            <a:xfrm>
              <a:off x="468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65"/>
            <p:cNvSpPr/>
            <p:nvPr/>
          </p:nvSpPr>
          <p:spPr>
            <a:xfrm>
              <a:off x="8523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66"/>
            <p:cNvSpPr/>
            <p:nvPr/>
          </p:nvSpPr>
          <p:spPr>
            <a:xfrm>
              <a:off x="468360" y="46418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67"/>
            <p:cNvSpPr/>
            <p:nvPr/>
          </p:nvSpPr>
          <p:spPr>
            <a:xfrm>
              <a:off x="468360" y="662616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6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F8E2C-ADD2-4455-97C7-750DC528F1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2400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IM of treatment is th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aintenance of functional capacity of the locomotive apparatu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joints and muscles, for enabling the patient as much as possible for performance of basic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ctivities of daily liv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professional 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6DFBE-5228-431C-8746-A13F2D6BA9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67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755640" y="2314440"/>
            <a:ext cx="763272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Medicamentous therapy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SAIDs, glycocorticoids, disease-modifying medicines, biological therap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ormation and edu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F40FE-F5B3-4AFE-A70B-CEB7BFAD61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Аcute phase –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phase of active synovit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oint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unload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vention of joi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ormiti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positioning of an extremity,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use of plastic orthoses or plaster splints, which are removed during day for performing 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– reduction of inflammation and pain, 5-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a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(isometric) contraction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 General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inactivity and resting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66AD8-0009-46F4-BA7C-B0B9D0A772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22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tho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9E62B-1E11-4A7F-ADE7-1632E3D68B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736720" cy="2378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708360" y="1844640"/>
            <a:ext cx="2158920" cy="3051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206712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ims of kinesitherap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muscle atroph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development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оsteoporosi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bone destruction due to in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F81CC-8B39-4CD7-9349-D34EC04157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5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457200" y="1619280"/>
            <a:ext cx="82296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Rheumatic diseases are etyologically, pathogenetically, clinically and therapeutically a heterogenous group of diseases.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ymptom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in the structures of the locomotive apparatu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ig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disrupted functio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f the affected par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ome diseases involve other organs and system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FA9AA-8B13-499E-8EC9-2B71C3F182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50920" y="1125360"/>
            <a:ext cx="662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tatic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isometric) contractions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On weak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xtensors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</a:rPr>
              <a:t>for maintenance of muscle mass and strength and prevention of flexor contracture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Can be performed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In all positions, and also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while wearing splints.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6804000" y="220500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6B101-4F67-400F-AC1C-CC5E25C183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in chronic phase  (remission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68360" y="1341360"/>
            <a:ext cx="82296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motherapeu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rocedur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W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ffin wax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G; EF with Novocain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DDC; IFC; TENS; ES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ulse Magnetic Fiel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edematou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dati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s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-inflammator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rm local bath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exercis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for maintenance and improvement of the 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 the damaged joint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resisted exercises with proper dosag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or maintenance and improvement of the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muscle strength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joint stabilizers.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F2173-4D3A-4178-AF58-C57AF8BCC1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75564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92BFA-0B99-4F67-8802-17AE9574F89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395280" y="333360"/>
            <a:ext cx="826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68360" y="148428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xial spondyloarthritis (by ASAS defini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hronic inflammatory rheumatic disease characterized by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ynoviti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I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synovial joint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pinal column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(intervertebral, costovertebral, costotransversal) and more seldom CF, GH and peripheral joint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lesions of muscular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serti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еnthesitis) of the spinal column, ligaments and tendon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lvi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attachment of annulus fibrosus, anterior and posterior longitudina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lig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 yellow ligaments),peripheral joints and synchondrosi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or fibrous lesions of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ther organ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just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flammatory lesions of the locomotive apparatus spontaneously end in ossification,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kylosis of joints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ossification of insertions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B1694-EE17-4A67-91EB-8584DB3D8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755640" y="1701720"/>
            <a:ext cx="7632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LAB27 allele is positive in 90 - 95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RF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alence in the world 1 – 2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begins between the ages of 15 and 29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common in men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 : W = 3 : 1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04664-7759-46D7-8CAF-DF502C713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407880" y="189000"/>
            <a:ext cx="826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agnosis - ASAS criteri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49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12098-3224-42A2-ADFA-EACE9122E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027760" y="2058840"/>
            <a:ext cx="3598560" cy="1128960"/>
          </a:xfrm>
          <a:prstGeom prst="rect">
            <a:avLst/>
          </a:prstGeom>
          <a:solidFill>
            <a:srgbClr val="dce6f2">
              <a:alpha val="91000"/>
            </a:srgbClr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93920" y="1192320"/>
            <a:ext cx="4438800" cy="642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Lumbar pain ≥3 months;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age at the onset of symptoms &lt;</a:t>
            </a:r>
            <a:r>
              <a:rPr b="1" lang="sr-Latn-C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45 year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076720" y="2058840"/>
            <a:ext cx="35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Open Sans"/>
              </a:rPr>
              <a:t>2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Verified presence of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HLAB27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+ ≥ 2 characteristics of Sp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000080" y="2058840"/>
            <a:ext cx="3751200" cy="137268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Verified sacroileitis 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(MRI or X-ray verified signs of acute inflammation acording to modified New York criteria)</a:t>
            </a:r>
            <a:br>
              <a:rPr sz="16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+ ≥ 1 SpA characteristic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428920" y="3357720"/>
            <a:ext cx="4824360" cy="3288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SpA characteristics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flammatory lumbar pai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enthesitis (heel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uve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arthr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dacty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psoria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col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good response to NSAID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SpA in the family anamne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+ HLAB27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creased level of CRP (SpA characteristic only in the context of chronic lumbar pain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AutoShape 8"/>
          <p:cNvCxnSpPr/>
          <p:nvPr/>
        </p:nvCxnSpPr>
        <p:spPr>
          <a:xfrm flipH="1">
            <a:off x="2995200" y="1790280"/>
            <a:ext cx="216720" cy="2689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AutoShape 9"/>
          <p:cNvCxnSpPr/>
          <p:nvPr/>
        </p:nvCxnSpPr>
        <p:spPr>
          <a:xfrm>
            <a:off x="5796000" y="1775880"/>
            <a:ext cx="289440" cy="2754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395280" y="20520"/>
            <a:ext cx="826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characteristics of A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179280" y="765000"/>
            <a:ext cx="8775720" cy="5811840"/>
            <a:chOff x="179280" y="765000"/>
            <a:chExt cx="8775720" cy="5811840"/>
          </a:xfrm>
        </p:grpSpPr>
        <p:sp>
          <p:nvSpPr>
            <p:cNvPr id="283" name="Rectangle 3"/>
            <p:cNvSpPr/>
            <p:nvPr/>
          </p:nvSpPr>
          <p:spPr>
            <a:xfrm>
              <a:off x="179280" y="765000"/>
              <a:ext cx="273924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4"/>
            <p:cNvSpPr/>
            <p:nvPr/>
          </p:nvSpPr>
          <p:spPr>
            <a:xfrm>
              <a:off x="2928240" y="765000"/>
              <a:ext cx="601668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xial arthritis (sacroiliitis, spondy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rthritis „of the waist joints“ (hips and shoulder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eripheral arthritis more seldom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Other: enthesitis, osteoporosis, vertebral fractures, spondylodiscitis, pseudoarthros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179280" y="2866320"/>
              <a:ext cx="273924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XTRA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2928240" y="2866320"/>
              <a:ext cx="601668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cute anterior uveitis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Cardiovascular disorders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(aortic insufficiency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spiratory disorders (lung fibros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Lesions of the intestinal mucosa (Chron's disease/col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soriasis 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179280" y="4962600"/>
              <a:ext cx="273924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SYSTEMIC MANIFESTATIONS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2928240" y="4962600"/>
              <a:ext cx="601668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Fatigue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Weight loss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orexia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Night sweating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emia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292824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179280" y="2866320"/>
              <a:ext cx="87660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79280" y="49626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7928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95500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179280" y="7650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179280" y="657684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65106-13B7-4C08-919B-D3D17FE4C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412920" y="476280"/>
            <a:ext cx="826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395280" y="1197000"/>
            <a:ext cx="8280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involving locomotive syste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Kyphosis, kyphoscoli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tlanto-axial dislo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!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steopor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Vertebral body fractur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Cauda equina syndrom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xtra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nkylosis of peripheral joint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EXTRA-ARTICULAR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myloid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ephrolythia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CC7DC-BA61-42B4-8630-5724D198A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rcRect l="46407" t="5988" r="4278" b="9862"/>
          <a:stretch/>
        </p:blipFill>
        <p:spPr>
          <a:xfrm>
            <a:off x="5508720" y="1743120"/>
            <a:ext cx="3419280" cy="47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Palatino Linotype"/>
              </a:rPr>
              <a:t>Functional assesment through specifc tes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ecific instrument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tests) for A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2F816-5D29-4F94-9647-6C4987838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187280" y="1308240"/>
            <a:ext cx="813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23360" rIns="222336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000"/>
            </a:b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74680" y="2378160"/>
            <a:ext cx="8427960" cy="3919320"/>
            <a:chOff x="274680" y="2378160"/>
            <a:chExt cx="8427960" cy="3919320"/>
          </a:xfrm>
        </p:grpSpPr>
        <p:sp>
          <p:nvSpPr>
            <p:cNvPr id="305" name="Rectangle 5"/>
            <p:cNvSpPr/>
            <p:nvPr/>
          </p:nvSpPr>
          <p:spPr>
            <a:xfrm>
              <a:off x="274680" y="2378160"/>
              <a:ext cx="581508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INSTRUMENT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6099480" y="2378160"/>
              <a:ext cx="258984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EASURES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7"/>
            <p:cNvSpPr/>
            <p:nvPr/>
          </p:nvSpPr>
          <p:spPr>
            <a:xfrm>
              <a:off x="274680" y="3017520"/>
              <a:ext cx="581508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disease activity index (BASDA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8"/>
            <p:cNvSpPr/>
            <p:nvPr/>
          </p:nvSpPr>
          <p:spPr>
            <a:xfrm>
              <a:off x="6099480" y="3017520"/>
              <a:ext cx="258984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egree of disease activity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274680" y="3814200"/>
              <a:ext cx="581508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functional index (BAS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0"/>
            <p:cNvSpPr/>
            <p:nvPr/>
          </p:nvSpPr>
          <p:spPr>
            <a:xfrm>
              <a:off x="6099480" y="3814200"/>
              <a:ext cx="258984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>
              <a:off x="274680" y="4350240"/>
              <a:ext cx="581508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ougados functional index (D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2"/>
            <p:cNvSpPr/>
            <p:nvPr/>
          </p:nvSpPr>
          <p:spPr>
            <a:xfrm>
              <a:off x="6099480" y="4350240"/>
              <a:ext cx="258984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274680" y="4880160"/>
              <a:ext cx="581508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metrology index (BASM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6099480" y="4880160"/>
              <a:ext cx="258984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74680" y="5477040"/>
              <a:ext cx="581508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odified stoke ankylosing spondylitis spinal score (m-SASSS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6099480" y="5477040"/>
              <a:ext cx="258984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Structural damage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7"/>
            <p:cNvSpPr/>
            <p:nvPr/>
          </p:nvSpPr>
          <p:spPr>
            <a:xfrm>
              <a:off x="60994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8"/>
            <p:cNvSpPr/>
            <p:nvPr/>
          </p:nvSpPr>
          <p:spPr>
            <a:xfrm>
              <a:off x="274680" y="3018960"/>
              <a:ext cx="84182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>
              <a:off x="274680" y="381420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0"/>
            <p:cNvSpPr/>
            <p:nvPr/>
          </p:nvSpPr>
          <p:spPr>
            <a:xfrm>
              <a:off x="274680" y="43502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74680" y="4880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>
              <a:off x="274680" y="54770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3"/>
            <p:cNvSpPr/>
            <p:nvPr/>
          </p:nvSpPr>
          <p:spPr>
            <a:xfrm>
              <a:off x="2746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870264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5"/>
            <p:cNvSpPr/>
            <p:nvPr/>
          </p:nvSpPr>
          <p:spPr>
            <a:xfrm>
              <a:off x="274680" y="2378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6"/>
            <p:cNvSpPr/>
            <p:nvPr/>
          </p:nvSpPr>
          <p:spPr>
            <a:xfrm>
              <a:off x="274680" y="629748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ment of the spinal column mobilit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D6198-1310-46D0-B880-2762D050C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68360" y="155736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heumatic diseases are characterized b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great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frequenc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every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7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t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patient who seeks medical help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w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mortality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rate (as a cause of death they make a negligible share of 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01 ‰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ng-ter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sickleav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th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or 2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employee absenteeism)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disabilit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physical disability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DC423-4493-45BD-8EE4-A40A9CF789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ngertip-to-Floo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428760" y="1643040"/>
            <a:ext cx="49719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Calibri"/>
              </a:rPr>
              <a:t>Sagittal mobility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bending forward to the point of pain with the knees extended;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Fingertips to floor distanc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measured in 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74B5F-21F7-4741-B63F-2DD467F81E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457200" y="270000"/>
            <a:ext cx="850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Range of motion of the cervical spin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457200" y="15667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/ext              lateroflexio                      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395280" y="4464000"/>
            <a:ext cx="2322360" cy="181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3492360" y="4608360"/>
            <a:ext cx="2232000" cy="1528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3"/>
          <a:stretch/>
        </p:blipFill>
        <p:spPr>
          <a:xfrm>
            <a:off x="6500880" y="4714920"/>
            <a:ext cx="1942920" cy="1528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6"/>
          <p:cNvSpPr/>
          <p:nvPr/>
        </p:nvSpPr>
        <p:spPr>
          <a:xfrm>
            <a:off x="6858360" y="392904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tto test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08000" y="2154240"/>
            <a:ext cx="4751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rk C7 segment with a marker, then mark another point 30 cm down the spine 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maximum anteflexion, the distance was great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n 3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BCF03-23C5-4F34-A76D-1911DBAFB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dified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Schobe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971640" y="2735280"/>
            <a:ext cx="70009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 and 5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L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 distance should be increased for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t least 5 cm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9F8A4-5646-45F5-BE2F-337DD0936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Lumbar lateroflex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45720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Lateral side bending t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level of the middle finger on each side is marked with a horizontal line on the side of the thigh. The subject is then asked to slowly bend sideways as far as possible and that level is also marked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istance between these two lines is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bout 20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ealthy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subjects.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ED54B-20A7-4F44-AB1C-68B854DB9A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index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395280" y="155736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the level of the intercostal space 4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x inspirium – max expirium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pends on age and gender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&gt; 5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70E22-C4B9-461F-832D-D9A69945B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539640" y="1557360"/>
            <a:ext cx="814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Мedicamentou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NSAIDs; disease-modifying medicines, biological Т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. Res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0-hour night rest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aily from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. Education – explain the nature of the diseas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Physical therap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i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aintain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obility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pine and coxofemoral j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trengthen the function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spiratory muscles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36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514FE-71DF-4135-BBD1-306642C1AD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274680"/>
            <a:ext cx="82296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365040" y="1000080"/>
            <a:ext cx="83646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Ultrasou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igh-dos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1 - 1,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W/cm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on both SI joi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 on PVM of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 spine segment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Kinesi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ercises for improvement of th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of the spine, exercises for improvement of the range of motion of the hips and shoulde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breathing exercises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 thoracic (costal breathing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„to the point of crying“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rmo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SWD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araffin wax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(pain redu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muscle relaxation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lectroanalgesia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ble galvaniz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F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with vasodilato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otassium-iodide and hydrocortis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yadynamic currents; Intraferential currents; Electrostimulation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ulse Magnetic Field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Laserotherapy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Massag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(reduces p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decreases the tone of PVM, improves circulation and local metabolism of the tissues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DB9D4-5386-494C-977F-07D1615C9A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457200" y="66816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755640" y="1484280"/>
            <a:ext cx="7561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Rheumatism of the peripheral joi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thros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Degenerative rheumatic disease of the spine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pondylo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umbar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A85D5-C9F2-4EC9-BB9C-12388894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lassification of 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826920" y="2075040"/>
            <a:ext cx="785988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egenerative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xtra-articular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are rheumatic diseases and para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23B68-8333-4771-9319-C20FE17CBD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08000" y="549360"/>
            <a:ext cx="90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diseases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1187280" y="1387440"/>
            <a:ext cx="7560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rthroses are defined a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amage of the joint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cartillag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 proliferation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f the bone ending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out synovial inflammation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r if present, it is mild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secondary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CD77C-476D-4769-AE0A-AC086EDB2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arthro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MAR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iopati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osiv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1" lang="sr-Latn-CS" sz="28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uri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evelopmental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bol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crine disorder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flammation of joint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opath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isorders in collagen synthesi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25092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Degenerative diseases 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457200" y="1197000"/>
            <a:ext cx="598644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i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itially only when overused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Stiffness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 the morning and after long-term immobilization 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Functional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disorders and joint </a:t>
            </a: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deformations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Crepitation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Laboratory results - normal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FBE38-D608-419D-B631-28F119A8F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graphic signs of arthr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457200" y="2133720"/>
            <a:ext cx="569916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pace narrow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chondral sclerosi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teophyt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sts in the subchondral bo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6315120" y="4076640"/>
            <a:ext cx="2504880" cy="1828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42012-82E1-4BF8-8BD7-A7AEF97029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boratory analy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here are no specific laboratory test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normal or mildly increased in the subsequent inflammation complica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8DA73-DF2D-4163-BA78-A8B0CC46BC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539640" y="40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vention of 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611280" y="1916280"/>
            <a:ext cx="83055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and an early treatment of congenital deform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ip disloca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injuri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 (adequate body weight, regular moderate physical activit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609480" y="762120"/>
            <a:ext cx="7131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dicamentous treatmen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1979640" y="1989000"/>
            <a:ext cx="6194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gesic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SAID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administered glucocorticoi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ndroprotect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479520" y="260280"/>
            <a:ext cx="757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n-medication treatment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900000" y="1773360"/>
            <a:ext cx="705816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formity correc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ndoprosthesis implant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763640" y="1557360"/>
            <a:ext cx="6265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most frequent kind of arthrosis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ost common in persons aged &gt; 40 year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=F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250920" y="6245280"/>
            <a:ext cx="3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E2A13-03E4-41D2-A567-4517573BB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imary or idiopatic –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t is not the result of any known pathological hip condi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about 42%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xarthroses develop after various pathological hip cond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40% of all coxarthroses are the consequence of the hi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velopmental disord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fter protrusion of the acetabulum, after injuries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nflammatio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7DF59-A56F-4CAB-A46C-92D44911D1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bined therap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50920" y="1600200"/>
            <a:ext cx="339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icamentous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algesic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ti-inflammatory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sease-modifying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iological therapy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708360" y="1600200"/>
            <a:ext cx="51847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circulation and tissue nutri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evacuation of the extravasate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vention of muscle atrophy and  contractur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tissue elastic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activity of the kinesthetic and motor engram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ral condition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7AD21-BD63-4F15-A480-D0760A8366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250920" y="1341360"/>
            <a:ext cx="84358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ain when walking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the basic sign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occurs after 200m, 500m, 1km or more, depending on the degree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t the initial stag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diminishes with rest and when lying down, but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n the late stage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is felt during the whole day, later even during the night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is most often localized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in the anterior thigh extending to the kne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r in the anterior inner thigh; more rarely in the posterior thigh or under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F5A37-BD7A-41F6-A73C-19CF22E474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468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ogressive limitation of the range of hip motion 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flexion movement is affected at the latest stage, while much more common are limited hip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rotatio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r limited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bduc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often accompanied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audible cracking or clicking sound in a damaged hip, as well as occasio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ck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hip join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later stage, the patient experienc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 when putting press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hip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ypotroph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thigh muscles, or decreased trophy and strength of the thigh musc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A8C5E-E148-4AE3-A10B-E15D529D0F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n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763640" y="1989000"/>
            <a:ext cx="66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comm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6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 years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9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68436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684360" y="1916280"/>
            <a:ext cx="77724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he first clinical sig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starts o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terior or inner s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knee, much more rarely on the outer or posterior side, while later, it affects the whol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t the beginning it occurs when walking, especially on uneven groun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395E8-B170-47B5-9118-07F6EF9C4D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rating sensation,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n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cking of the knee joint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oss of mo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occurs rarely and usually as a consequence of other damages of the joint cartillage or the menisci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Swelling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f the knee and accumulation of fluid in the knee occur at the later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Limitation of movements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especially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flex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ccurs many years later after the onset of the diseas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29EE9-F58D-4339-9492-9B5F5E60AF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547640" y="163512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eventive measur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servativ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: analgesics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SA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locally administered glucocorticoid, chondroprotecto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rgic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07973-DDFF-4924-9A91-D0E00084FB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p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5500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nee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979640" y="1936800"/>
            <a:ext cx="4968720" cy="378144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466F1-A6FA-4D33-8EE2-766C9D432F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324000" y="1197000"/>
            <a:ext cx="84643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Joint unload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rease of body weight, a cane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crutch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ercises for maintenance and improvement of the strength of the stabilizer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swell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Therm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fter resolving inflamm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Elect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potassium-iodid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C, DD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gnet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628D4-86D5-4A1A-8D20-2289B5742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95280" y="549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c disease of the spine - spondyl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1187280" y="1941480"/>
            <a:ext cx="66247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ervical syndrom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Local cervic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brachi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ceph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medulla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ED226-6AC8-45D2-8F48-BA8E70D6B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Aims of 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900000" y="1557360"/>
            <a:ext cx="7786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 musc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troph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steoporos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bon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str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ue to inactivit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еduc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FA806-8DAC-4B52-BB0E-51E390408D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468360" y="40464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uring 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аcute phase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ocally, on the skin above the muscles located near the cervical spine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massag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s applied (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wra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In more severe case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stabilization of the cervical spine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in the soft neck brac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Schantz collar) during the day and night, then only during the night while the symptoms are present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3FEDC-BC25-4A3C-87EB-098D61609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chronic phas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en the pain intensity diminishes, аnd the spine becomes more mobile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tions (analges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r NSAIDs as nee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or reduction of pain and spasm of the PV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 procedures in the form of warm compresses, hot baths, shower, 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apeutic ultrasound or sonophoresi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traction (stretching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 –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most importa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BC559-CEFA-4F4A-9FCB-72D270A1BB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0" y="630360"/>
            <a:ext cx="9144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57200" y="1628640"/>
            <a:ext cx="82296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Lumbalgia</a:t>
            </a:r>
            <a:r>
              <a:rPr b="1" lang="sr-CS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unspecific lumbar pain) (over 95%) – pain in the lower back from the lower ribs to the gluteal li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ciatic syndrom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5%) - pain spreding usually down one leg, which indicates irritation/compression of the nerve roo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evere spinal pathology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2%) – progressive neurological defici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B8C53-61E2-465D-83EB-C2C1ED1A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lg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according to its duration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lt; 6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sub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6 -12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chron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gt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Acute lumbalgia occurs due 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trusion of the nucleus pulposus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bluxation of the intervertebral joint (facet joint S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F83AC-7F70-42EC-8C56-885119036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discus hern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B8054-E791-4752-9FC9-D0EB5A690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3"/>
          <p:cNvSpPr/>
          <p:nvPr/>
        </p:nvSpPr>
        <p:spPr>
          <a:xfrm flipV="1" rot="5400000">
            <a:off x="2052360" y="2203560"/>
            <a:ext cx="2087640" cy="1656000"/>
          </a:xfrm>
          <a:prstGeom prst="rtTriangle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826920" y="204156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ten between the age of 30 and 5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n more than 95% of cases at the level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L5 (compression of the root L5) or at the level L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S1 (compression of the root S1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68360" y="568440"/>
            <a:ext cx="822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2050920" y="1428840"/>
            <a:ext cx="613116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CONSERVATI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7533B-9E09-4251-AEC3-D466FB89A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ying in b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(CAUTION!!!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activity;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traction</a:t>
            </a:r>
            <a:r>
              <a:rPr b="0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lumbar sp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 therapy (antiphlogistics, analgesics, sedati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i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SUB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ormation and education regarding the diseas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7D39D-2DFC-4C37-9519-34184D3B2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46836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8220" r="0" b="13858"/>
          <a:stretch/>
        </p:blipFill>
        <p:spPr>
          <a:xfrm>
            <a:off x="533520" y="3005280"/>
            <a:ext cx="2293920" cy="16761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27CB2-CD37-4125-AADF-088EF096F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3048120" cy="2046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3"/>
          <a:stretch/>
        </p:blipFill>
        <p:spPr>
          <a:xfrm>
            <a:off x="6477120" y="297648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4648320" y="3357720"/>
            <a:ext cx="137880" cy="31248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473040" y="50328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68360" y="1546200"/>
            <a:ext cx="3382920" cy="2387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382920" cy="25765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4067280" y="1557360"/>
            <a:ext cx="48592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6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ccording to Archimedes' law, water reduces the body's weigh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ater temperature decreases the muscle spasm and improves circul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 muscle weakness, improved efficacy in performance of movements has a positive psychological effec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E1754-BBC7-46EA-A74A-7A3EAF284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 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3628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HRONIC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erapy in this stage is directed at </a:t>
            </a: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maintenance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 of the  achieved state, or use of selected procedures on the basis of the functional stat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Ergonomic counselling and train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rough ergonomic counselling, the patient is trained for performing and using the protective movements and pos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EA73C-BD90-43EB-B56F-009F3243A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19040" y="189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Ergonomic counselling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7BAA4-4895-42CC-A4C2-3179A9056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1096920" y="1279440"/>
            <a:ext cx="6583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47160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revention of the lumbar syndrom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457200" y="1484280"/>
            <a:ext cx="84358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otective positions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ergotherapeutic adapt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uscle strengthenin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it is important to achieve balance between the strength of trunk flexors  and extensors, which means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tween the muscles of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nterior abdominal wal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back muscles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s well 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alance between the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hip flex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xtens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79E1F-16F3-4B4E-A672-A2976CA64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Extra-articular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835280" y="1467000"/>
            <a:ext cx="59767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hesitis or enthesopath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osynov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niculitis or cellu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ofibro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E425D-3A6B-489A-B391-E2863C41C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eriarthritis humeroscapular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45720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Basically -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wellin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calcificatio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of the soft structures around the shoulder join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process is  accompanied by the following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ymptom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pai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limited range of motio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muscle weaknes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578AC-668F-488B-8B2D-DD361DC54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NNI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lateralis)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JAVELIN THROWER'S and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GOLFER'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medialis)</a:t>
            </a: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611280" y="1600200"/>
            <a:ext cx="799308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ENNIS ELB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ain and tenderness o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t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forea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tens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JAVELIN THROWER'S and GOLFER'S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enderness in the area 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 joi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ear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lex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hoanatomic chan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t the site of muscle attachments to bone:  periosteal thickening, metaplasia of the muscular attachments and fibrosis, ev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issue calcifi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457200" y="3678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403280" y="1589040"/>
            <a:ext cx="692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 (locall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 – electroanalgesic procedur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V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HOCK W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high-energy sound wave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59A71-4BAE-47FB-A505-EB24AD42E4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476280"/>
            <a:ext cx="8229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6836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heumatoid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ondyloarthropat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Ankylosing spondy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orbusBechterew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syndrom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Psoriat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Enteropath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65613-B558-454A-AABF-58CE8FA7DA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ic disease of the connective tissu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f unknown etiology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ith chronic and progressive course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nic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mmetric destructive polyarthritis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volvement of other organs in a small degree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s consequences include dissability, reduction of working capacity and premature death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77685-125F-4C59-837D-E39E5EFB02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6:09:49Z</dcterms:created>
  <dc:creator>Vojislav Ilic</dc:creator>
  <dc:description/>
  <dc:language>en-US</dc:language>
  <cp:lastModifiedBy>Nada Miklja</cp:lastModifiedBy>
  <dcterms:modified xsi:type="dcterms:W3CDTF">2023-09-27T09:24:02Z</dcterms:modified>
  <cp:revision>612</cp:revision>
  <dc:subject/>
  <dc:title>Slide 1</dc:title>
</cp:coreProperties>
</file>